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3E2-6227-42C0-89EC-45AEE1A8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705-A95B-44E1-B62C-D1613B07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6FE-088C-4877-8016-2A7B06B3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E27-91EE-424F-A861-58DB4616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C5C-6973-4E84-8DAD-89093D5E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9756-BB6A-46FD-8636-0A9889CD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AA4-4DA3-4C29-94BB-C2D7A96F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EE2-EB48-4B08-BF02-EEF5E795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2600-0B58-4C1C-9FA3-5B01563E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0AF8-79C7-4C52-86A8-D4BBED42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BD89-2F59-4FB1-96B7-BF75B992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1E0-34C3-42F6-BECF-8828ED21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49AB-C615-4687-8D5B-89891EDDD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pa.gov/air/caa/" TargetMode="External"/><Relationship Id="rId2" Type="http://schemas.openxmlformats.org/officeDocument/2006/relationships/hyperlink" Target="http://www.epa.gov/air/caa/" TargetMode="External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anadiangeographic.com/atlas/themes.aspx?id=SHIELD&amp;sub=SHIELD_FEATURES_DELUGE&amp;lang=E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04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Rebekah Elmu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0739000">
            <a:off x="380880" y="609480"/>
            <a:ext cx="3524400" cy="2318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997200">
            <a:off x="5638320" y="3733560"/>
            <a:ext cx="308160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86b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760" y="4568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304920"/>
            <a:ext cx="4876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se are the most polluted places in the world since they are industrialized and have a careless attitude towards the environ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 most polluted places in the world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zerzinsk, Rus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bwe, Zamb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na, Dominican Republ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14800" y="2209680"/>
            <a:ext cx="37339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dnaya Pristan and Dalnegorsk, Rus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uu-Suu, Kyrgy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ecojunk.wordpress.com"/>
          <p:cNvPicPr/>
          <p:nvPr/>
        </p:nvPicPr>
        <p:blipFill>
          <a:blip r:embed="rId1"/>
          <a:stretch/>
        </p:blipFill>
        <p:spPr>
          <a:xfrm rot="459600">
            <a:off x="5867280" y="4495320"/>
            <a:ext cx="2990880" cy="1947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248520" y="64612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ilsk,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Blacksmith Institute"/>
          <p:cNvPicPr/>
          <p:nvPr/>
        </p:nvPicPr>
        <p:blipFill>
          <a:blip r:embed="rId2"/>
          <a:stretch/>
        </p:blipFill>
        <p:spPr>
          <a:xfrm rot="21069000">
            <a:off x="228600" y="441972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8080" y="6461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ipet,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Blacksmith Institute"/>
          <p:cNvPicPr/>
          <p:nvPr/>
        </p:nvPicPr>
        <p:blipFill>
          <a:blip r:embed="rId3"/>
          <a:stretch/>
        </p:blipFill>
        <p:spPr>
          <a:xfrm rot="259200">
            <a:off x="2971800" y="3657600"/>
            <a:ext cx="2914560" cy="1933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00400" y="5562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Orova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86 Chernobyl Ukraine had a nuclear disaster which left the area uninhabit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infen China, air quality is poor due to the burning of c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top-10-list.org"/>
          <p:cNvPicPr/>
          <p:nvPr/>
        </p:nvPicPr>
        <p:blipFill>
          <a:blip r:embed="rId1"/>
          <a:stretch/>
        </p:blipFill>
        <p:spPr>
          <a:xfrm>
            <a:off x="4800600" y="3048120"/>
            <a:ext cx="3886200" cy="2736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iccpurpleclass.blogspot.com"/>
          <p:cNvPicPr/>
          <p:nvPr/>
        </p:nvPicPr>
        <p:blipFill>
          <a:blip r:embed="rId2"/>
          <a:stretch/>
        </p:blipFill>
        <p:spPr>
          <a:xfrm>
            <a:off x="1143000" y="3429000"/>
            <a:ext cx="2530440" cy="2943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6bd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ed States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most polluted citi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Angeles, 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kersfield, 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tsburgh, 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no, 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mingham, 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roit, 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smog"/>
          <p:cNvPicPr/>
          <p:nvPr/>
        </p:nvPicPr>
        <p:blipFill>
          <a:blip r:embed="rId1"/>
          <a:stretch/>
        </p:blipFill>
        <p:spPr>
          <a:xfrm>
            <a:off x="4343400" y="22096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419720" y="54864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Angeles,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,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7760" y="38052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 Rain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big concern in the eastern half of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industrialized and urbanized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ffected area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 rot="891600">
            <a:off x="3596760" y="2080800"/>
            <a:ext cx="5105520" cy="3659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6bd3"/>
            </a:gs>
            <a:gs pos="50000">
              <a:srgbClr val="ffffff"/>
            </a:gs>
            <a:gs pos="100000">
              <a:srgbClr val="986b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 Rain Glob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39625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reas affec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astern section of Canada (Toronto-Hamilton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danavia (Sweden, Norway, Finla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a (India and Ch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 rot="825000">
            <a:off x="5638680" y="4343040"/>
            <a:ext cx="3087720" cy="217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20625600">
            <a:off x="3962520" y="1295280"/>
            <a:ext cx="3809880" cy="3355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9880" y="1828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 Problems of 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-term effect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itation in eyes, nose, and thr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rgic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80920" y="838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effect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 respiratory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mage to brain, nerves, liver or kidn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rot="21261000">
            <a:off x="533160" y="4038480"/>
            <a:ext cx="2857320" cy="2514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 rot="393600">
            <a:off x="5486400" y="4419720"/>
            <a:ext cx="3290760" cy="2192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6bd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114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cid Rain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tional Geograph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N.p., 2010. Web. 18 Feb. 2010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&lt;http://environment.nationalgeographic.com/environment/global-warming/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acid-rain-overview/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cid Rain Rep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angelfire.com, n.d. Web. 18 Feb. 2010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&lt;http://www.angelfire.com/ks3/acidrainreport/acid.html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ir Polution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ikiped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N.p., 18 Feb. 2010. Web. 18 Feb. 2010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&lt;http://en.wikipedia.org/wiki/Air_pollution#Pollutants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eb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n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Clean Air Act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 Eviromental Protection Agenc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N.p., 18 Feb. 2010. Web.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Feb. 2010. &lt;http://www.epa.gov/air/caa/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ood Up High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 Enviromental Protection Agenc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N.p., 3 Sept. 2009. Web.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Feb. 2010. &lt;http://www.epa.gov/oar/oaqps/gooduphigh/good.html#1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How can air pollution hurt my health?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awrence Berkeley National Laboratory'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LSI Proj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Lawrence Berkeley National Laboratory, n.d. Web. 18 Fe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2010. &lt;http://www.lbl.gov/Education/ELSI/Frames/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pollution-health-effects-f.html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Indoor and Outdoor Air Pollution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awrence Berkeley National Laboratory's ELSI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Lawrence Berkeley National Laboratory, n.d. Web. 18 Feb. 2010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&lt;http://www.lbl.gov/Education/ELSI/pollution-main.html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343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Particulate Matter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S Enviromental Protection Agenc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15 Jan. 2009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Web. 18 Feb. 2010. &lt;http://www.epa.gov/oar/particlepollution/&gt;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Pittsburgh and Los Angeles the Most Polluted US Cities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ity Mayo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17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May 2009. Web. 18 Feb. 2010. &lt;http://www.citymayors.com/environment/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polluted_uscities.html&gt;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econdary Pollutants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Ra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Feb. 2010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&lt;http://science.jrank.org/pages/6028/Secondary-Pollutants.html&gt;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lfe, Elizabeth. "The 10 Most Polluted Cities in the World."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ayiamgreen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2009. Web. 18 Feb. 2010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&lt;http://sayiamgreen.com/blog/2009/09/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the-10-most-polluted-cities-in-the-world/&gt;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ods, Sable. "What Region of the United States Is Most Affected by Acid Rain?"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how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2010. Web. 18 Feb. 2010. &lt;http://www.ehow.com/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facts_4965252_united-states-affected-acid-rain.html&gt;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6bd3"/>
            </a:gs>
            <a:gs pos="50000">
              <a:srgbClr val="ffffff"/>
            </a:gs>
            <a:gs pos="100000">
              <a:srgbClr val="986b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roduction of toxic chemicals into the atmosp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s natural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health problems in living thing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ed as primary, secondary, and particulate pollut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086600" y="5392800"/>
            <a:ext cx="2057400" cy="1465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240" y="1143000"/>
            <a:ext cx="61722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ission of substances directly into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canic-release a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 vehicles-carbon mon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ies-sulfur d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444000">
            <a:off x="5562720" y="4266720"/>
            <a:ext cx="3276360" cy="2264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512200">
            <a:off x="228600" y="1676520"/>
            <a:ext cx="2514600" cy="2176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1036200">
            <a:off x="990360" y="40381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86b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mitted directly to the air, water, or s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d when primary pollutants react in the atmosphe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synthesized in the environment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s such as nitrogen d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tted chemicals such as ozone (gas &amp; strong oxida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ulate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5181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ixture of small particles and liquid drople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health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ategories of particle pol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alable coarse parti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1492800">
            <a:off x="5867280" y="2209320"/>
            <a:ext cx="236376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86bd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zone Depl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zone is a gas that helps protect Earth from UV-Radi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ful substances inv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am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 extinguis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sti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rosol Propell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Ozone - Too  Much Here Too Little There"/>
          <p:cNvPicPr/>
          <p:nvPr/>
        </p:nvPicPr>
        <p:blipFill>
          <a:blip r:embed="rId1"/>
          <a:stretch/>
        </p:blipFill>
        <p:spPr>
          <a:xfrm rot="675000">
            <a:off x="4800600" y="2971440"/>
            <a:ext cx="3828960" cy="3475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361960" y="228600"/>
            <a:ext cx="4190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743200"/>
            <a:ext cx="838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form of precipitation with high levels of nitric and sulfur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occurs in the form of snow and f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auses are from the burning of fossil fuels, rotting vegetation, and erupting volcano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id Rain effec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ac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ks into the 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ges fo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anadiangeographic.com/atlas/themes.aspx?id=SHIELD&amp;sub=SHIELD_FEATURES_DELUGE&amp;lang=E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Photo: Spruce forest damaged by acid rain, Poland"/>
          <p:cNvPicPr/>
          <p:nvPr/>
        </p:nvPicPr>
        <p:blipFill>
          <a:blip r:embed="rId2"/>
          <a:stretch/>
        </p:blipFill>
        <p:spPr>
          <a:xfrm>
            <a:off x="0" y="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 rot="1625400">
            <a:off x="6735240" y="398520"/>
            <a:ext cx="173376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6bd3"/>
            </a:gs>
            <a:gs pos="50000">
              <a:srgbClr val="ffffff"/>
            </a:gs>
            <a:gs pos="100000">
              <a:srgbClr val="986b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858000" cy="5610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5867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lean Air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law designed to protect, improve, and regulate the nation’s air 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reated in 1970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stratospheric ozone lay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public well-be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 rot="20930400">
            <a:off x="5410080" y="1295280"/>
            <a:ext cx="3467160" cy="2311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 rot="1122600">
            <a:off x="5486400" y="3580920"/>
            <a:ext cx="3124080" cy="2492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4:18:04Z</dcterms:created>
  <dc:creator>sasd</dc:creator>
  <dc:description/>
  <dc:language>en-US</dc:language>
  <cp:lastModifiedBy>SASD</cp:lastModifiedBy>
  <dcterms:modified xsi:type="dcterms:W3CDTF">2010-02-19T16:38:08Z</dcterms:modified>
  <cp:revision>40</cp:revision>
  <dc:subject/>
  <dc:title>Air Pollution</dc:title>
</cp:coreProperties>
</file>